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470-69A6-4E63-B8D8-00CD437A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37B-9A5C-4ACF-80F1-B7A4493D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F4C0-609D-4229-BE40-D6E49DB6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C60-E83B-46D0-816C-DE826565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FCA-5F85-4FC5-B805-99D4EE14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B54C-651D-435B-BBC5-985DDF51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1F01-1696-4AE1-B6D9-7C22FC0A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02D-D975-4839-9469-3C717473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BE3-A8F7-48CD-851B-F3D19CA5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D49E-BE19-46F4-9220-4F3C8E93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7E43-62A8-48AA-BDDA-1F45F125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0CBB-E554-4096-97D0-371E4E59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7349-305D-40FD-B67A-6B0EFA53E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57240"/>
            <a:ext cx="73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sk-SK" sz="6600" spc="-1" strike="noStrike">
                <a:solidFill>
                  <a:srgbClr val="000000"/>
                </a:solidFill>
                <a:latin typeface="Arial"/>
              </a:rPr>
              <a:t>áklady teórie pravdepodobnost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z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vislosť udal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intuitívne chápanie nezávislosti nemusí mať každý človek korekt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formálna nezávislosť je založená na tom, že znalosť jednej udalosti nevrhá žiadne svetlo na objasnenie či nastáva druhá udalosť alebo 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ázdna udalosť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je nezávislá so všetký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 je tiež nezávislá so všetk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Náhodná premenn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príklad súčet hodených kociek alebo číslo padnuté na prvej ko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lebo vzdialenosť od bodu reprezentujúceho priemernú udal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o všeobecnosti priraďuje každej elementárnej udalosti reálne čís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umožňuje skúmať skupinu udalostí podobného charakt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udalosť je náhodná premenná s dvojhodnotovým obraz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Rozdele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aždému reálnemu číslo priraďu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depobno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ť elementárnych udalostí ktorým je priradené náhodnou premennou (ich množstvo vydelen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značujeme f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ak X je náhodná premen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Kumulatívne rozdele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aždému reálnemu číslu priraďu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avd pravdepodobn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ť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elementárnych udalostí ktorým je priradené náhodnou premennou toto číslo alebo menš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značujeme cdf F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df F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integruje f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df F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je výpočtovo efektívnejš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Náhodná premenná a rozdel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202716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 súčet hodu dvoch koc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a,b)) = a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rozdele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umula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ív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del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2819520" y="3076560"/>
                <a:ext cx="60195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6</m:t>
                                      </m:r>
                                      <m:r>
                                        <m:t xml:space="preserve">−</m:t>
                                      </m:r>
                                      <m:d>
                                        <m:dPr>
                                          <m:begChr m:val="|"/>
                                          <m:endChr m:val="|"/>
                                        </m:dPr>
                                        <m:e>
                                          <m:r>
                                            <m:t xml:space="preserve">7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n</m:t>
                                          </m:r>
                                        </m:e>
                                      </m:d>
                                    </m:e>
                                  </m:d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den>
                              </m:f>
                            </m:e>
                            <m:e/>
                            <m:e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2,3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ak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286000" y="4495680"/>
                <a:ext cx="6705720" cy="16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df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  <m:e/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m>
                                <m:m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f>
                                          <m:num>
                                            <m:r>
                                              <m:t xml:space="preserve">n</m:t>
                                            </m:r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r>
                                                  <m:t xml:space="preserve">n</m:t>
                                                </m:r>
                                                <m:r>
                                                  <m:t xml:space="preserve">−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d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6</m:t>
                                        </m:r>
                                      </m:den>
                                    </m:f>
                                  </m:e>
                                  <m:e/>
                                  <m:e>
                                    <m:r>
                                      <m:t xml:space="preserve">n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7</m:t>
                                    </m:r>
                                  </m:e>
                                </m:mr>
                                <m:m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5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f>
                                              <m:num>
                                                <m:d>
                                                  <m:dPr>
                                                    <m:begChr m:val="("/>
                                                    <m:endChr m:val=")"/>
                                                  </m:dPr>
                                                  <m:e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19</m:t>
                                                    </m:r>
                                                    <m:r>
                                                      <m:t xml:space="preserve">−</m:t>
                                                    </m:r>
                                                    <m:r>
                                                      <m:t xml:space="preserve">n</m:t>
                                                    </m:r>
                                                  </m:e>
                                                </m:d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.</m:t>
                                                </m:r>
                                                <m:d>
                                                  <m:dPr>
                                                    <m:begChr m:val="("/>
                                                    <m:endChr m:val=")"/>
                                                  </m:dPr>
                                                  <m:e>
                                                    <m:r>
                                                      <m:t xml:space="preserve">n</m:t>
                                                    </m:r>
                                                    <m:r>
                                                      <m:t xml:space="preserve">−</m:t>
                                                    </m:r>
                                                    <m:r>
                                                      <m:t xml:space="preserve">6</m:t>
                                                    </m:r>
                                                  </m:e>
                                                </m:d>
                                              </m:num>
                                              <m:den>
                                                <m:r>
                                                  <m:t xml:space="preserve">2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6</m:t>
                                        </m:r>
                                      </m:den>
                                    </m:f>
                                  </m:e>
                                  <m:e/>
                                  <m:e>
                                    <m:r>
                                      <m:t xml:space="preserve">n</m:t>
                                    </m:r>
                                    <m:r>
                                      <m:t xml:space="preserve">≥</m:t>
                                    </m:r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83" name=""/>
          <p:cNvSpPr/>
          <p:nvPr/>
        </p:nvSpPr>
        <p:spPr>
          <a:xfrm>
            <a:off x="838080" y="3855960"/>
            <a:ext cx="1067040" cy="2286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38080" y="56088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4572000" y="785880"/>
          <a:ext cx="4343400" cy="206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785880"/>
                    <a:ext cx="434340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Oč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vani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Prie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040" y="35053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 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účet hodu dvoch kociek je prie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7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609480" y="1689120"/>
                <a:ext cx="777240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</m:e>
                        <m:e/>
                        <m:e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e>
                        <m:e>
                          <m:m>
                            <m:mr>
                              <m:e/>
                              <m:e>
                                <m:r>
                                  <m:t xml:space="preserve">μ</m:t>
                                </m:r>
                              </m:e>
                              <m:e/>
                            </m:mr>
                          </m:m>
                        </m:e>
                        <m:e>
                          <m:m>
                            <m:m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den>
                                </m:f>
                              </m:e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ω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Ω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X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nary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066680" y="4419720"/>
                <a:ext cx="36576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E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</m:e>
                        <m:e/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079640" y="5146560"/>
                <a:ext cx="39495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</m:e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a</m:t>
                              </m:r>
                              <m:r>
                                <m:t xml:space="preserve">∈</m:t>
                              </m:r>
                              <m:r>
                                <m:t xml:space="preserve">ℜ</m:t>
                              </m:r>
                            </m:sub>
                            <m:sup/>
                            <m:e>
                              <m:r>
                                <m:t xml:space="preserve">a</m:t>
                              </m:r>
                              <m:r>
                                <m:t xml:space="preserve">⋅</m:t>
                              </m:r>
                            </m:e>
                          </m:nary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5430960" y="4419720"/>
                <a:ext cx="30049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e>
                          </m:d>
                        </m:e>
                        <m:e/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Odchýľka a rozpt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trebujeme vyjadri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ko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ľko sa ostatné hodnoty líšia od priem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rávne riešen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bližné diferencovateľné riešenie = odchýľ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Ľahšie sa vypočíta rozpty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3809880" y="2462040"/>
                <a:ext cx="518184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</m:e>
                    </m:d>
                    <m:m>
                      <m:mr>
                        <m:e>
                          <m:m>
                            <m:mr>
                              <m:e/>
                              <m:e/>
                            </m:mr>
                          </m:m>
                        </m:e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X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μ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2666880" y="4159080"/>
                <a:ext cx="36576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σ</m:t>
                          </m:r>
                        </m:e>
                        <m:e/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E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X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μ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</m:ra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914400" y="5837400"/>
                <a:ext cx="765504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m>
                                  <m:mr>
                                    <m:e>
                                      <m:s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e>
                                    <m:e/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var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mr>
                                </m:m>
                              </m:e>
                              <m:e/>
                              <m:e>
                                <m:r>
                                  <m:t xml:space="preserve">V</m:t>
                                </m:r>
                              </m:e>
                            </m:mr>
                          </m:m>
                        </m:e>
                        <m:e/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μ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Odchýľka a rozpt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0" y="1828800"/>
          <a:ext cx="8991720" cy="42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99172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Variančno-kovariančná 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152280" y="4181400"/>
            <a:ext cx="8991720" cy="214308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380880" y="1600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ovšeobecnenie rozptylu do viacerých dimenz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1067040" cy="10080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3"/>
          <a:stretch/>
        </p:blipFill>
        <p:spPr>
          <a:xfrm>
            <a:off x="4267080" y="3352680"/>
            <a:ext cx="4114800" cy="43020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4"/>
          <a:stretch/>
        </p:blipFill>
        <p:spPr>
          <a:xfrm>
            <a:off x="2362320" y="2690640"/>
            <a:ext cx="655308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Variančno-kovariančná 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0" y="1168560"/>
          <a:ext cx="4495680" cy="274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68560"/>
                    <a:ext cx="449568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4419720" y="1787400"/>
          <a:ext cx="4724280" cy="3727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787400"/>
                    <a:ext cx="4724280" cy="37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19080" y="4019400"/>
          <a:ext cx="4476600" cy="2721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" y="4019400"/>
                    <a:ext cx="4476600" cy="27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Elementárne udal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iestor elementárnych udalostí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, napr možné hody dvoch hracích kociek alebo body štvorca 1 x 1 (tzv. náhodný pries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Každá z elementárnych udalostí sa berie ako rovnako pravdepodob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4495680"/>
            <a:ext cx="205740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62720" y="426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0120" y="6400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81480" y="4343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64450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5181480"/>
            <a:ext cx="16002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48006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8769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87692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4952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5410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54100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5486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5943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6019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61722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6172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6019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48769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487692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4952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4952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50292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5410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54100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54864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5638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59436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6019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61722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6019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6172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43434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4495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4495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48769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487692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952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952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4952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4952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50292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54100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54100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5486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5638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5486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5562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5638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5486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5638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54864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5562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5638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59436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59436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6019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6172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6019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6172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6019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6172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6019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6095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61722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51498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5638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Kovariančná 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933960" cy="52380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1066680" y="54864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O:  priklad na kovarianciu, PCA, Gaussovka, sigmo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562720" y="4495680"/>
            <a:ext cx="205740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4495680"/>
            <a:ext cx="2057400" cy="1905120"/>
          </a:xfrm>
          <a:prstGeom prst="rtTriangle">
            <a:avLst/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dalos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dalosť je podmnožina náhodného priestoru, t.j. množina elementárnych udalostí   E </a:t>
            </a:r>
            <a:r>
              <a:rPr b="0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hápeme to tak, že nastáva práve jedna elementárna udalosť, ktorá je prvkom danej uda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dne súče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47242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7242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800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4876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4876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952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5181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51814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5257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5410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5257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410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4952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49528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5181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562720" y="426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0120" y="6400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4343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64450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54864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x+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4495680"/>
            <a:ext cx="205740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vdepodobnos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aždej udalosti priradíme mieru s akou sa vyskytu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) = P(E) + P(F)  ak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4495680"/>
            <a:ext cx="205740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4495680"/>
            <a:ext cx="2057400" cy="1905120"/>
          </a:xfrm>
          <a:prstGeom prst="rtTriangle">
            <a:avLst/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dne súčet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3 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47242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47242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4800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4876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4876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4952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5181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51814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5257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5410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5257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5410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4952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49528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38280" y="5181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562720" y="426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6400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4343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4450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59119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x+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1) = 1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62720" y="4495680"/>
            <a:ext cx="205740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36720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u bude P počet možností h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37339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u bude P pomer plochy a celkovej plo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Vety o pravdepodob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 = P(E) + P(F) – P(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E) = 1 – P(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mienen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 pravdepodobnos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B) … pravdepodno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ť A za predpokladu že nastáva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P(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/ P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4419720"/>
            <a:ext cx="19810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7913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2 / 36 : 3 / 36 = 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47242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47242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800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4876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4876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4952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5181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51814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5257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5410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5257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5410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4952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49528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5181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43800" y="6400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42670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91520" y="64450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3672000"/>
            <a:ext cx="4343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na najakej kocke padne jedno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padne 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če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3214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A =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{ 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&lt; 1/2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62720" y="4419720"/>
            <a:ext cx="990360" cy="19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6057720" y="4914720"/>
            <a:ext cx="990720" cy="198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62720" y="5410080"/>
            <a:ext cx="99036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4419720"/>
            <a:ext cx="198108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1320" y="35193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{ y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 1/2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1320" y="38862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¼ : ½ =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z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vislosť udal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je nezávislá na B ak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|B) = P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a B 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ú nezávislé ak 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B) = P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5091120"/>
            <a:ext cx="19047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3 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1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402444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402444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4100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417672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417672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425304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448164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448164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5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471024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45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47102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425304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52480" y="425304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440532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5120" y="440532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4329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44816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29718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padn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d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oj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padne 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če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509112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3 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29000" y="402444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402444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05320" y="41004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417672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417672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2530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448164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09880" y="448164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45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47102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5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47102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67080" y="425304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425304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19720" y="440532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40532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724280" y="4329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448164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29718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padn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dve šes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padne 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če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5091120"/>
            <a:ext cx="19047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 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29718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 prvej padn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 druhej padn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28954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324480" y="40384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05720" y="40384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41911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24480" y="44956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44956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008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53080" y="4724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4038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43800" y="40384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3888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15200" y="41911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162920" y="44956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44956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388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391520" y="4724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238880" y="4724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3915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696080" y="4648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001000" y="4038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1880" y="40384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0773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153280" y="41911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77320" y="4267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2296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534520" y="41911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29600" y="4267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01000" y="44956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81880" y="44956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0773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077320" y="4648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077320" y="4724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296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229600" y="4648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29600" y="4724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0" y="41911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0" y="4648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696080" y="41911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534520" y="4648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391520" y="4267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-463320" y="3968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ávis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5400000">
            <a:off x="8311680" y="4349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ezávis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z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vislosť udal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1447920"/>
            <a:ext cx="8381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je nezávislá na B ak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|B) = P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a B 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ú nezávislé ak 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B) = P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5410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54100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6668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62120" y="5638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58672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58672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5943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6095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90720" y="5943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56386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52480" y="56386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23880" y="5791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05120" y="5791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5715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2971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5029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34290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34290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6668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3352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14400" y="38862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3962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430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666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430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34290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34290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52388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2880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7160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38862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2880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05120" y="40384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52388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37160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43434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2880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2880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8288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5238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09680" y="34290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90920" y="34290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09680" y="38862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0920" y="38862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6668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4320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3828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209680" y="43434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59092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195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382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8108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810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9810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8195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48120" y="34290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29000" y="34290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505320" y="3505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276720" y="36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4812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429000" y="38862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505320" y="3962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053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767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04812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42900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6576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767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5760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5760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6576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40384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0040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57800" y="5410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8680" y="54100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34120" y="54864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41008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91320" y="5562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5638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58672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638680" y="58672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5943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48640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715000" y="5943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6728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95880" y="56386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477120" y="56386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629400" y="5791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553080" y="5715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705720" y="5867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81480" y="2971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81480" y="5029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373392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98108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82880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98108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288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9810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195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65760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505320" y="36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65760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57800" y="34290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638680" y="34290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41008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791320" y="3581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25780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38680" y="38862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71500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86728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25780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638680" y="43434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71500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4100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791320" y="4495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8672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095880" y="34290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477120" y="34290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248520" y="3581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5308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095880" y="38862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77120" y="38862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5530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62940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0384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095880" y="43434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47712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5530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5530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248520" y="4495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934320" y="34290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315200" y="34290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01028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46748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162920" y="36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93432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315200" y="38862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102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91520" y="3962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46748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1629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3432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1520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0102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3915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54380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1629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057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7057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5438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772400" y="34290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153280" y="34290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848720" y="3505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22960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305920" y="3581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0100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77240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153280" y="38862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848720" y="3962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22960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2296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0010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77240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153280" y="43434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8487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305920" y="4495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0010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8188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3818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38188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22960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9246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705720" y="3505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55308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705720" y="36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05720" y="3962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55308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705720" y="4495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438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3915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38188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2960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38188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609480" y="3886200"/>
            <a:ext cx="10670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z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vislosť udal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je nezávislá na B ak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|B) = P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a B 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ú nezávislé ak 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B) = P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33520" y="5181480"/>
            <a:ext cx="190476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3 /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3 /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" y="28782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{ x + y &lt; 1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{ x &lt; ½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14600" y="5181480"/>
            <a:ext cx="190512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438280" y="2878200"/>
            <a:ext cx="1752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{ x &lt; ½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{ x &gt; ½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724280" y="5181480"/>
            <a:ext cx="190512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 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 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2878200"/>
            <a:ext cx="2590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y &gt; ½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{ x &lt; ½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267080" y="28954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342720" y="415224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90920" y="388620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800600" y="388620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16200000">
            <a:off x="5067000" y="3619440"/>
            <a:ext cx="53352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16200000">
            <a:off x="4533840" y="415224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88620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16200000">
            <a:off x="2324160" y="4152600"/>
            <a:ext cx="1066680" cy="533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rot="16200000">
            <a:off x="2857320" y="415224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629400" y="5186520"/>
            <a:ext cx="190512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 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 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53080" y="2743200"/>
            <a:ext cx="2438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y &gt; ½ &amp; x &lt; ½ }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 y &lt; ½ &amp; x &gt; ½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{ x &lt; ½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705720" y="3890880"/>
            <a:ext cx="10666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16200000">
            <a:off x="6972120" y="3624120"/>
            <a:ext cx="53352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6438600" y="4157640"/>
            <a:ext cx="1067040" cy="533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6200000">
            <a:off x="-463320" y="3968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ávis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5400000">
            <a:off x="8311680" y="4349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ezávis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1T10:06:17Z</dcterms:created>
  <dc:creator>Andy</dc:creator>
  <dc:description/>
  <dc:language>en-US</dc:language>
  <cp:lastModifiedBy>MicroStep-MIS</cp:lastModifiedBy>
  <dcterms:modified xsi:type="dcterms:W3CDTF">2008-04-16T14:22:50Z</dcterms:modified>
  <cp:revision>64</cp:revision>
  <dc:subject/>
  <dc:title>Slide 1</dc:title>
</cp:coreProperties>
</file>